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781DAB0-CBE5-474F-8077-685AB3DC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6D1E-A2CF-4BA6-A7C9-6B948911FB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FC82E-5096-4BA4-8E65-B87E1656A6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1ACC5-FB2D-4EB3-9DF3-E5E7B58176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50254-D1DE-4208-BCF5-11234D5FC8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01FE0-52F5-4E76-B5A2-2B94C82AD00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5CD-5414-4E52-B4DA-F63D82D8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A0-B384-4004-B88D-50C8EC14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C0A-7D8D-41FC-B718-2C884B61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404-20C3-41F5-B90B-EBF6CCF5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38F-B869-4745-A6B3-136D6C53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CD3C-7B9D-4C0D-9C66-43EA3AE2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5AAF-F84C-415F-880F-8E99F2F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5D46-552B-4E84-8640-B8CDD845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2C8B-64F0-4ABE-9FDC-7C6427BC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AD7A-E6B9-4450-9BD0-D0E4E8AB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D988-D1F5-433A-8EFF-D997B42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2D0-94EA-4228-A8A2-ADA3819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B73-162C-4826-81B5-62575C4D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FAD-A2CE-4595-85A9-7A5F687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127-57BB-4A5F-8FC1-FCEE374F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F34-5A8A-4DC5-8045-24B1C42C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975-B0F6-4530-B3DE-4D842F33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B5C-C420-4AC6-A5B2-AFA71D5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4BA-26A8-494C-9090-7350A98C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501-DE5A-4E84-9669-ECB99FB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798-3680-409F-9BA5-50342564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FD4-E37D-4E64-B538-FCD975C5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7AF-BB1A-4E3A-9FA7-DF9C26A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0C6-DF38-48D2-8CF8-6B1C6A9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90A-4715-4906-8A44-27FBC188992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918B-C07C-4B67-9FC7-A1A1BCBDAA8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C89-BB78-4398-A623-9448CDB4DC4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3.2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3.3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1T17:33:58Z</dcterms:modified>
  <cp:revision>165</cp:revision>
  <dc:subject/>
  <dc:title>Math GAINS 2008-09</dc:title>
</cp:coreProperties>
</file>